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559-6A03-49AC-81F9-F9F2A0F4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80B-2C93-4FA7-BF30-7B568822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80C4E-E7C3-4CC3-96A4-70E8ADAB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26E74-BE2F-4F56-88DF-F3262239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AC392-6F54-4653-89CB-D3BADB05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ACFEE-8190-4E8F-BC77-B62A87DC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758E7-6B9C-486D-B4E7-53E8D39F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5B837-B953-40D8-A546-4F71511E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BE196-78BC-4439-BCCF-93780814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BA30A-9A6F-4128-AB71-647DB6C1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5BA99-6741-4950-A26B-D81BAFDD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31233-607F-4502-B090-4C3151F1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896D-C272-4E33-9A9E-403F7A3D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881EE-F43B-43BA-BE14-EB59D44C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CE5BA-CC28-4437-8A79-11B6978C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3FB8B-BD2C-4689-89E0-A0CB61EF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59662-34AC-4626-9579-31E1CEC4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C23F8-838F-47FD-B7E3-629685F9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280F8-B478-464E-89CD-54467F99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99337-E725-4C73-916D-9985D40A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C7EBA-BCE8-4355-912F-9656221B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1DDD9-89A1-4BDF-8F9A-0C098CFD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79242-47DD-4162-B366-980AA9CA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4A5C-CB1A-44E7-9CB6-AF3F800D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E09BE-CB74-470D-8DE2-18306B5D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F5215-8110-4690-9A7D-D360D1FB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55438-28D2-4BAE-9551-78174551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43B03-0B05-4D9C-9C67-C1811296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CD040-6206-4ACA-8C13-4CB46632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3CD2B-D2EE-4A19-BE6F-B69F2406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C1F57-95AF-4E96-86BC-9B4855DB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0BFED-291E-455B-AF0A-1C12869B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8F72E-0737-4CF6-845D-4C9D8366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C8491-01B3-4B9E-8E96-7B8AB5A9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CD26-87FC-4CAF-AB11-2E4CF667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81F2C-51E1-4CA7-BD82-3CEA9025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53FE7-E477-4510-B32B-2D2A02C1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464D0-5B5A-48FE-A3D7-C1E0D0A6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62901-0D3D-4765-A01C-2C5E0FC9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F7A8D-A314-4A3E-8B3B-0721F3F2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1071D-3ABB-447F-9D18-3AA78E62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7C829-92D4-4FDC-902D-736F55E1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4139D-8FD5-43CF-A0C3-6E336A1D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B1C29-C05B-4363-87A5-D59E35AF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FA538-7183-457D-A403-5E66EEF4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3337-B3B1-44BF-AF7D-EBB9E884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C606B-51B9-4149-B411-0AA7B6FA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DD8FA-8FA4-473B-9B1F-B5B3448D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14772-7418-4425-AF2F-15306942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31EC0-1FFC-43B3-959C-52A00E74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B422F-85BC-407D-B601-386CFD4A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907A85-2D06-41E3-AD16-845890A7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53D04D-7785-4760-846E-FC0EB73D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46021A-A56E-451D-B29D-AE7CD095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D65C6-2D63-4018-8E69-EDCC8421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E8754-520C-4432-9085-0470735F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7B27-5F89-409B-8C45-DA840927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ECFA4-F06F-40E5-BEE3-A7AE680A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2C42B4-0D4B-459B-AFB4-560749B9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39A46C-EB69-42BD-8B69-01DE76E1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866F5E-A00B-49DF-84E9-6E90DDBA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90E925-A507-4FBF-80F0-1DFF19C4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C8B9EC-94E9-4CF8-82DF-E7B5F279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B1D8EF-C0E1-4B48-9A9C-05BABB93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7B2ADE-F32F-4BB5-AC0B-AEEFD9B4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FE2EC5-531E-433C-943B-CF77B42C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033C9A-BF1C-40A8-82AB-4BDACA69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D055-931E-47CC-9747-4A19766A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556FAF-81F4-49D8-9350-C5CA9F0B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ACEAF1-7292-4125-8779-F86E4129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70E9AD-523B-4864-BF86-D43CF3E0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B4F5E1-7724-4617-834E-01678F3D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4AC0CA-95C5-450F-A165-739A85B5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1BF788-DB92-43CC-B51E-9F66128C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4F63DF-A3A1-484A-A5DF-D5DCFA7E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1BB4F3-75ED-41BC-BDE3-801FF067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76F4F9-FA7E-4E3E-8A9E-E1D7B8BC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0A8D08-D630-4BF5-A1CC-9F8D45F6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FE9C-F371-417C-9D51-40ECFCCB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2D03DE-E49B-4054-8A4D-BDB1B5CD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0C6762-7D09-4853-AC01-4CDEC0E6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8EF842-8D7F-4677-8F93-31F960E2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C23C8F-3B47-4EF0-ABBD-AFF54E9C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190F45-05C0-4361-8718-28EA2EE3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833DB5-F7E0-4B8A-9B4E-C4D047B7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A5998D-B4EF-4EFB-9C89-982CF71C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DAEC97-7CFA-44A9-A368-143890CC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B69275-CF30-4999-896B-0A55DDAA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AE3764-37B8-4F30-BE87-379330AF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690C-B3A3-40C3-A5AE-B09E7DDA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E9C537-7A69-4CC5-A511-760B5427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1158FE-AB11-4CB8-9F70-11917F68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E3060F-1666-4858-8611-EB096AC0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EFD4A2-061D-438D-9367-8D42FB34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773386-1B28-4F20-B452-D1AC7BB3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DA03B2-AFD1-48A7-9020-0930DC24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D07F82-1190-4AF0-A920-8D229BDD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56F6BA-36AD-49ED-A6C3-9C3A8262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407FBA-1440-4E12-9C33-B787D4CD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2608F7-14FF-40ED-B5E9-39A46FC1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BF4B-4DDD-4564-AF53-ACD6F6CB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9AB2D0-622C-41C5-B5B5-063A7D9F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7BF777-BD79-47B8-B8A3-7D5D9719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042A09-8796-4B3D-9E49-08ECF3F0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BFD686-5F6D-4EA5-AC12-445358C4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7A5648-A822-4D43-A6E5-1D75457D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FEAA50-D43B-467C-B81B-23D262F9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E0B422-9786-47D1-B62D-DE4F2650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A05CB4-9192-4172-84A8-DE7F4B52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69831A-F5AE-4F81-AAFA-2BCB9A05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96D37D-72E3-461E-8E83-DBE78926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B5C4-2707-4EE8-B1A8-CFBCBECC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9929-7555-4BCD-9382-0C8EC552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301828-727A-41FA-8B56-A0A6A679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DC1614-9B95-4CE5-BA9B-6529FD32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014124-D07B-4095-996C-88ACAEF7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1747B3-1955-4408-B7D1-7E392D0C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536DA8-6E81-4650-8452-C1B0A0A3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CD2FB8-4EE0-4EAC-8CDA-37E154AB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401F3D-C4B8-451C-8179-C80B3833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0E3948-5BBE-45E7-948E-B23291FA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2F2BF8-3B69-4348-A5AB-3B1BA661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C99F00-8583-4030-9D95-313AD2BF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5C97-C1C3-491B-850B-99391996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31025C-AD98-49F0-8209-8445D1E7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B541C2-311A-4A26-96FD-74B0C5C6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7CEA32-D2B5-45B2-80BD-5E488F80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D1DE4A-C1C6-4710-89E8-A9149C87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DA51F8-B62C-4F34-8ACA-98C4532B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AA4F80-DBCC-4F55-9475-A0A12C67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21BF10-BF78-40AE-BCD7-13D1AD6F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E977EC-8E7E-42AF-984B-F51733EF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4BBCC5-07C0-4536-83BC-58A24FD7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2EB417-A80B-44FD-82FF-9D322596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D90F-24A8-4ACF-B4E8-31CFC7B6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1AF530-D6B6-4799-8DCA-222CA84A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7C93AB-F013-4C0F-BAEC-08767AC8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8AD877-E2AA-4154-8968-7CBB6D75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75FB67-3F7F-49B7-B23F-139671CF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0CD9B9-7AB0-47B9-8FA8-6755AFD9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977C7D-386D-4DED-92A9-B59AFB6C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8C1A4F-B324-471A-80C2-A8532A9B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E51E4A-3C52-48DE-8BBD-8CC85D89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32913D-ED9E-4767-A946-2C94DB08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A9F86C-5A37-49F3-A417-11BA1D2F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9F2F-2906-4338-A744-FEA9AF29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91F7AF-D532-4EEE-85A6-E6E0DD6E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8EE7FA-DA4E-4C2E-AB8F-11A16987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F1981C-DD56-482D-938C-8EC081E6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889663-1A22-465E-A9FF-57F1834A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9005D8-0F04-40F7-B780-7103BE78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984585-8B72-42BF-B4AD-7DC2706F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FE941C-8906-42D0-972C-2C96A628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F06FC2-9ED2-4C55-B478-B0C7DCA7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629C5F-C7F3-4878-9C50-C3003AD7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667696-C90D-47A0-9C2B-A069EFAE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5A3D-49C5-474D-AB8D-703AF848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AD6459-D979-4ED4-B8E8-E7CD6715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C67CC6-3559-467A-BB28-421FAE2F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352D9C-3912-4E1F-96B0-A28D4C94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491656-21AB-4E39-942E-A4929085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FF80F9-1926-499C-A72A-28223FE1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AA9CD1-166D-44A3-AFE0-CF4A9822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E270D7-5D09-4195-A3DA-A8D286DE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EFDB36-9625-4A7D-AEFE-3E10B271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14E713-D440-4E35-8A99-4E520615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2B9F35-4A1F-4C32-801F-4FCEC381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EA07B-6FC3-4FD1-BB9C-C8784BCE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FC7CF0-3CDC-47A8-A796-FA49F9E0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6CED8A-7A4A-463F-BCCA-B9B6FC53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907E79-8D31-440E-8BF7-DC0A912E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68B21-A68C-4F17-9E9E-563E1A95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2C063-F9AF-46FC-9EAA-E3688FA5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BCA40-F0AE-4BC5-91FD-36E5813E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D77C4-9322-44C0-8158-446EEAAD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060-A15D-4DE3-96AC-071D19EF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12698-F8C8-4670-993F-92B52382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D80E0-A49E-4969-9A71-71D2100E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CCA2E-9557-4CC9-8C01-1B874736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C4A44-1722-4B2A-B46C-0A668117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D6451-367E-4360-A84B-0ADA5265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E4FC1-FF6C-4DA5-B293-2B53CFD8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C2410-5855-4A7C-A07F-5C870AC8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A941A-EEC3-494B-A77B-67803DD9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7956B-5EE9-47D7-9391-E577690B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E79F3-60C8-48E1-99E2-17984AC2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754A-7772-478B-BAEE-3B98280A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2B7FB-ADAD-4120-83D9-E40EC8DF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942F5-E4EA-4CB7-83B3-C818397A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BCAE4-7F39-4564-A4AD-E6749A05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DC2FA-B9E5-4955-94D5-4A6FA6F6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1EA04-64EE-4221-BA9A-F54DD2DF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88F91-C4D6-4D5C-8B8F-64F6C0B8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FCA75-054D-49E4-B527-04E663C4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69E29-6C76-4693-A675-B516FE59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A1584-1532-42C7-9AA6-1C46AB22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913CA-070D-4B05-8297-7416C14B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F8FB-296B-4466-AB60-D6584CAF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40137-B59B-43BE-A5D6-F1BC19BC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126EE-E258-4A90-894A-C36AFA2E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152A4-4121-4AF3-897D-75509562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18A52-AF2B-4FA3-A757-F00D3104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3716B-EC8A-48AB-A954-64DA9D90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B396A-804F-4A94-BB03-955C7E67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9AD69-B6B4-4B74-872C-B481856A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BBC6D-FE55-463F-9FDA-0CBEE130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29326-524F-443C-B45A-9C7743CF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B9D38-090A-4CC6-888F-E57470DA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84BE-64CD-4EA3-80FD-9B1029CE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7F506-C9D0-4218-A250-92939A0A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C4059-32C8-4A0D-AE15-6B76F4A2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5C6E6-D98D-4E82-94A9-9C0DCBEE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63127-ECEB-4770-A66C-6F085657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687F1-EF31-48D7-B3C2-670BA2ED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1A851-8EED-41C1-B59F-4B64883F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71266-BFD6-4AD3-9AB8-A84BF01A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CAACE-205F-4011-BF00-64CDD318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CE45F-BBCD-42F6-904E-1962B110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058A0-644A-4ED8-94DB-5717232B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255-CBCA-44A9-8676-3A119F10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700A0-3C68-4BCD-9FE7-56AFAB96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6D122-66B9-4FAF-8828-2BB8F7A7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2E70F-39F2-4ED7-9195-49A4FE9D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0CC65-93AD-490C-8E25-8F8E46E3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20BAB-13DD-442C-B63F-EACE24B0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7C1CF-B123-40C5-933C-511C1298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8A2E3-8813-43D6-BFCC-163C9E8B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DB6F8-AD44-4C0F-89EF-7EB0A576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DCD71-211C-4810-8B11-D134E233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B4954-F542-4F5B-A306-FF156D6C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C9C1-7EBC-42FF-BE6B-85B67C48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D27C9-DD8A-4411-BD2F-A8A4A11D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1C911-BFFB-4029-8827-C9DD15F6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5B91C-AE9A-448D-8BA4-29BEB849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F179E-7685-4780-9AA8-20EBA3FB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0755A-2247-4C18-B674-959201BE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89155-5839-4F91-9F25-CECB0285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8D9F2-F87C-4C81-85E8-40AC8DA5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751CA-32DA-4E28-BFE2-0796E5EB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536BB-38F9-4297-96FE-CFBACAB9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09FE5-C04B-4133-9274-2498994F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FE20-8F83-4C09-BDA2-B0DDF7FC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98029-F6F1-4610-A62B-6AB3468E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4A7E2-E836-4E1D-AA1B-5E20704B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89A73-F7DF-4EC5-9C16-E0200D82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3CE3B-4A30-462E-AE3E-F284FD15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D109F-C3D6-4F6F-BC98-08AC9F08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AC16D-AAA4-4FBF-B10E-959D37F6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2D1CE-7DE6-4A09-B3F9-3F8B08A2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1B308-78D6-4B36-B3FF-62D5549E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789EF-155D-49DA-8F1D-2645357C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E53E8-B523-47EE-B01E-79127803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75A8-4BB5-4394-B982-7B10E451DE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D8C5-03BC-4A77-951F-2F729A6A0A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67E8-99C6-4B65-B611-E4F6C7B0E3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0EAA-2C8F-4ACA-A367-826B165330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9046-3B23-4FE4-9088-2411992E1E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A1C6-AA24-43D9-B881-53AD38C5EE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0289-698B-4973-9EFC-00871361A2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BDBF-DB45-4FD5-9960-C15460216D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2F3F-ADAE-42BB-ABB0-779A4C4405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B2FA-A054-40B8-BFA7-1085F08AC5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6C54-BAEC-4CD5-ACFA-335E84F63D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370D-8759-4425-B2B5-AA0D8C4A77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E5F0-80F7-4089-BF2E-E2242C322F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0D83-7FCA-4CA4-9C10-96B4493620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2827-3503-4DBF-AF6E-C430ADE985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B6B4-1F69-43D2-8A7C-A9BC88BB84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E0FF-81D5-423B-BE68-4D14872A45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A6DB-7A1C-4903-933B-805E8BC8FD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22E7-CD37-46C1-B714-5D15516E5F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BC4F-AFA3-412B-844C-7BE405E3EE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82A4-953A-4A53-89DB-DCEC520292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DB15-EF33-43C5-BE9D-9A0E786526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44E7-D759-434B-AD6C-40A9D74949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B726-AC17-4D7A-BCC6-D48B547968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FABE-D66A-48E2-A414-D3F7CEF2D5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543A-D95D-408E-9C75-D1128854CA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A68C-FD6C-4473-831E-51C2929C19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B86F-9F1D-4954-8F26-3E01372CB6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B153-D654-4736-9D35-58FEE69130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BFC1-9BE3-4522-BCD1-304AB1A238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2289-7961-435F-88C6-1E72968018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E89B-E4E0-4AFA-AF44-32C2A69434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FB3A-8E1A-4665-A0CD-0F51BE9866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BB2E-1650-4BA9-BA7C-19CDF3652E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7829-5483-4324-843F-02421EE7A0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FCDF-5FF7-4277-8973-837084DB3D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3376-6C2D-43F6-AF90-71F9629855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4E25-2A84-4FC6-9E3A-F3920DAA48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7906-F314-4C84-AEDC-F72D8A57AF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A13B-ECEE-4737-9AA3-73913AA6DE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8534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图片 52231" descr=""/>
          <p:cNvPicPr/>
          <p:nvPr/>
        </p:nvPicPr>
        <p:blipFill>
          <a:blip r:embed="rId1"/>
          <a:stretch/>
        </p:blipFill>
        <p:spPr>
          <a:xfrm>
            <a:off x="281160" y="95400"/>
            <a:ext cx="8581680" cy="66672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2"/>
          <a:stretch/>
        </p:blipFill>
        <p:spPr>
          <a:xfrm>
            <a:off x="1576440" y="324180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3"/>
          <a:stretch/>
        </p:blipFill>
        <p:spPr>
          <a:xfrm>
            <a:off x="2700360" y="324180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4"/>
          <a:stretch/>
        </p:blipFill>
        <p:spPr>
          <a:xfrm>
            <a:off x="3836880" y="3241800"/>
            <a:ext cx="432000" cy="3585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5"/>
          <a:stretch/>
        </p:blipFill>
        <p:spPr>
          <a:xfrm>
            <a:off x="1590840" y="4221000"/>
            <a:ext cx="431640" cy="3589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6"/>
          <a:stretch/>
        </p:blipFill>
        <p:spPr>
          <a:xfrm>
            <a:off x="2714760" y="4221000"/>
            <a:ext cx="431640" cy="3589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7"/>
          <a:stretch/>
        </p:blipFill>
        <p:spPr>
          <a:xfrm>
            <a:off x="3851280" y="4221000"/>
            <a:ext cx="431640" cy="3589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8"/>
          <a:stretch/>
        </p:blipFill>
        <p:spPr>
          <a:xfrm>
            <a:off x="1590840" y="518652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9"/>
          <a:stretch/>
        </p:blipFill>
        <p:spPr>
          <a:xfrm>
            <a:off x="2714760" y="518652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0"/>
          <a:stretch/>
        </p:blipFill>
        <p:spPr>
          <a:xfrm>
            <a:off x="3851280" y="518652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1"/>
          <a:stretch/>
        </p:blipFill>
        <p:spPr>
          <a:xfrm>
            <a:off x="1590840" y="617868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2"/>
          <a:stretch/>
        </p:blipFill>
        <p:spPr>
          <a:xfrm>
            <a:off x="2714760" y="617868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3"/>
          <a:stretch/>
        </p:blipFill>
        <p:spPr>
          <a:xfrm>
            <a:off x="3851280" y="6178680"/>
            <a:ext cx="431640" cy="3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5200" y="1333440"/>
            <a:ext cx="8553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1" descr=""/>
          <p:cNvPicPr/>
          <p:nvPr/>
        </p:nvPicPr>
        <p:blipFill>
          <a:blip r:embed="rId1"/>
          <a:stretch/>
        </p:blipFill>
        <p:spPr>
          <a:xfrm>
            <a:off x="1469880" y="569880"/>
            <a:ext cx="6486840" cy="61722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1835280" y="66348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1692360" y="1370160"/>
            <a:ext cx="518472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1762200" y="2075040"/>
            <a:ext cx="518472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1619280" y="2781360"/>
            <a:ext cx="518472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1619280" y="3486240"/>
            <a:ext cx="518472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1762200" y="489744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1619280" y="560376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1619280" y="6308640"/>
            <a:ext cx="5184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76802" descr=""/>
          <p:cNvPicPr/>
          <p:nvPr/>
        </p:nvPicPr>
        <p:blipFill>
          <a:blip r:embed="rId1"/>
          <a:stretch/>
        </p:blipFill>
        <p:spPr>
          <a:xfrm>
            <a:off x="585720" y="1014480"/>
            <a:ext cx="7972560" cy="4829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971640" y="1787400"/>
            <a:ext cx="5688000" cy="4892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900000" y="2492280"/>
            <a:ext cx="5688000" cy="4888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971640" y="3228840"/>
            <a:ext cx="5688000" cy="4892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900000" y="3933720"/>
            <a:ext cx="5688000" cy="4888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826920" y="4538520"/>
            <a:ext cx="7848720" cy="4892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7"/>
          <a:stretch/>
        </p:blipFill>
        <p:spPr>
          <a:xfrm>
            <a:off x="755640" y="5243400"/>
            <a:ext cx="784872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8373" descr=""/>
          <p:cNvPicPr/>
          <p:nvPr/>
        </p:nvPicPr>
        <p:blipFill>
          <a:blip r:embed="rId1"/>
          <a:stretch/>
        </p:blipFill>
        <p:spPr>
          <a:xfrm>
            <a:off x="438120" y="1552680"/>
            <a:ext cx="82677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7352" descr=""/>
          <p:cNvPicPr/>
          <p:nvPr/>
        </p:nvPicPr>
        <p:blipFill>
          <a:blip r:embed="rId1"/>
          <a:stretch/>
        </p:blipFill>
        <p:spPr>
          <a:xfrm>
            <a:off x="1676520" y="966960"/>
            <a:ext cx="5790960" cy="49240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1763640" y="1066680"/>
            <a:ext cx="5832720" cy="5050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1763640" y="1743120"/>
            <a:ext cx="5832720" cy="5047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1763640" y="2465280"/>
            <a:ext cx="5832720" cy="5050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1763640" y="3141720"/>
            <a:ext cx="5832720" cy="5047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6"/>
          <a:stretch/>
        </p:blipFill>
        <p:spPr>
          <a:xfrm>
            <a:off x="1692360" y="3905280"/>
            <a:ext cx="5832360" cy="504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7"/>
          <a:stretch/>
        </p:blipFill>
        <p:spPr>
          <a:xfrm>
            <a:off x="1692360" y="4581360"/>
            <a:ext cx="5832360" cy="5050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8"/>
          <a:stretch/>
        </p:blipFill>
        <p:spPr>
          <a:xfrm>
            <a:off x="1547640" y="5229360"/>
            <a:ext cx="2737080" cy="5047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9"/>
          <a:stretch/>
        </p:blipFill>
        <p:spPr>
          <a:xfrm>
            <a:off x="4500720" y="5243400"/>
            <a:ext cx="27367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6324" descr=""/>
          <p:cNvPicPr/>
          <p:nvPr/>
        </p:nvPicPr>
        <p:blipFill>
          <a:blip r:embed="rId1"/>
          <a:stretch/>
        </p:blipFill>
        <p:spPr>
          <a:xfrm>
            <a:off x="1015920" y="1019160"/>
            <a:ext cx="7372440" cy="5505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5832720" cy="479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1619280" y="2421000"/>
            <a:ext cx="5832360" cy="4795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1476360" y="3083040"/>
            <a:ext cx="5832360" cy="4791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1547640" y="3803760"/>
            <a:ext cx="5832720" cy="4791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6"/>
          <a:stretch/>
        </p:blipFill>
        <p:spPr>
          <a:xfrm>
            <a:off x="1476360" y="4451400"/>
            <a:ext cx="5832360" cy="4795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7"/>
          <a:stretch/>
        </p:blipFill>
        <p:spPr>
          <a:xfrm>
            <a:off x="1547640" y="5172120"/>
            <a:ext cx="5832720" cy="4795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8"/>
          <a:stretch/>
        </p:blipFill>
        <p:spPr>
          <a:xfrm>
            <a:off x="1332000" y="5891040"/>
            <a:ext cx="2376360" cy="4795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9"/>
          <a:stretch/>
        </p:blipFill>
        <p:spPr>
          <a:xfrm>
            <a:off x="3851280" y="5877000"/>
            <a:ext cx="36734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5300" descr=""/>
          <p:cNvPicPr/>
          <p:nvPr/>
        </p:nvPicPr>
        <p:blipFill>
          <a:blip r:embed="rId1"/>
          <a:stretch/>
        </p:blipFill>
        <p:spPr>
          <a:xfrm>
            <a:off x="276120" y="1243080"/>
            <a:ext cx="85917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4276" descr=""/>
          <p:cNvPicPr/>
          <p:nvPr/>
        </p:nvPicPr>
        <p:blipFill>
          <a:blip r:embed="rId1"/>
          <a:stretch/>
        </p:blipFill>
        <p:spPr>
          <a:xfrm>
            <a:off x="590400" y="1090440"/>
            <a:ext cx="7963200" cy="46771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611280" y="1139760"/>
            <a:ext cx="5905440" cy="479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611280" y="1801800"/>
            <a:ext cx="5905440" cy="4795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539640" y="2550960"/>
            <a:ext cx="5905440" cy="4795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539640" y="3213000"/>
            <a:ext cx="5905440" cy="4795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468360" y="3919680"/>
            <a:ext cx="5905440" cy="4791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468360" y="4581360"/>
            <a:ext cx="8207280" cy="4795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395280" y="5300640"/>
            <a:ext cx="820728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03:3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